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D6BC-13D4-4CB8-B224-42DFDE36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 Credit:  © Frans Lanting/Minden Picture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presence of unlimited resources and in the absence of predation and disease, a population will grow exponentiall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th hypothetical graphs show the characteristic J-shape of exponential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shows the S-shaped curve of logistic growth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esources become less available, the population growth rate slows or stop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growth of this population has leveled off at its carrying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AB9-2880-4F54-B862-C20EF890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5F9-C96B-48D1-8C68-B284C362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5EF-CAE2-4606-974D-371BB2E0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DF4-3391-4369-A1C1-A17D0384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36E1-1B46-41BC-967C-AF1939DD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4B0C-6246-489F-946C-381C191E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4C28-AACA-4ED0-A3D5-3FA7BE6E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DC8D-358F-4857-973F-65E3CC0A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9123-4D89-40F3-95CA-088EA79F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CCD2-EDB1-4037-9FA1-DBFD27FC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27D2-71E1-40BA-A161-A3C3C92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418-9AC7-498D-B503-E5F33D70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BA0E-13E0-43F8-AD3E-B27C9C8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7D38-5D3C-4051-A431-AF31D893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2078-93ED-4B46-8CCD-C37DAC16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E035-BFEB-4962-9E72-00115EDD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1066-BE88-44A5-8E9C-EE10923C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85C2-02C8-402C-A1F0-E65FDE3B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B03B-ACF2-4AE9-A710-AC9974AC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8888-D831-47AE-9025-D808003A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4BC3-2957-4F59-9A20-4C7F8AEE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88DA-0682-44DA-8C13-01224460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12F-C1DD-4A0E-8C3E-7D3039B1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FF4E-9D24-49D4-9634-C851848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9327-D5EC-44DC-853A-B687DE3A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4248-B128-4017-BB63-08EFCBD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4CB0-8078-4AF7-9BFE-11353CCB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EBA4-3DB3-48CD-8211-C5541A54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781B-9152-4EE7-929C-952901AF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56CC-18E1-42E4-BEDC-32D3DF16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60A8D-7D18-41E4-B3EC-6E20AEF9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F1F26-F663-471D-9019-12FEBEAF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B40F-5750-4B78-B556-B9238C4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BB2-A569-4B56-8BA8-46F7D96B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DDA1-9A95-4EA7-85E0-64A877CC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C44A-497F-4E4B-AD50-CAAE359A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300A7-2397-4667-BF9B-1B75D1DB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6C8D-BECC-4712-B040-3964831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69EE9-F5F6-4621-A5C6-08885EFE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B0F46-25E1-4575-88FC-2022B7D4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B7D7-E00A-4630-92BF-A40E3CBB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5CBA-56AA-4E40-9D3A-517892FE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FC85-EDC0-4892-8970-A9E2AA99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FD40-7A74-4500-9395-9BC60010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491-21FE-4EF2-8386-4F441EB8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52B5-DF49-487E-82CA-10ED5DFA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F21C6-9448-4CB9-BF41-5DF62E95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4E97-193D-4796-8816-4930224F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6CB5A-91C9-41DB-A16D-B3834E86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FF73-1498-48AD-98E2-833A7AB3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39AB-7331-430B-B67B-0744D436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4CEF-EC72-4513-96FE-EA6BF9A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F7FD-B46B-4F5B-B237-AB6C22B5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1765A-FF22-41D4-A4C6-86576957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2842F-BDE8-45C3-B5BD-0BAD745B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BA7-ECD6-48AA-AA7F-675CC702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4729-BE5C-4688-802D-1429029C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72ECC-18FC-4CE1-8A29-74230C02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0E5C9-522E-4975-8A43-4767739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C715E-52F0-42E5-9D59-2DEEC4D8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371DC-B218-40E4-8A65-B09A26C3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6794-3F20-4125-8992-ECFA26F2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F042B-D082-49B2-A9CE-9002EFDC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B453-122E-4FB6-B138-10A0FBB7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F97FE-D89A-4878-B608-9F28AD5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A2FE-32DB-4FD5-AF36-2619B560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B3D-5A46-460D-A300-8A21FB3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38A59-2C3F-40C5-A2A4-95F9A7C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56934-FC97-456A-8F2B-0416CD82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F7140-75EF-4640-8C2D-DFD88BD9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82A52-F994-4F94-B200-31691B23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21C6F-3DF6-4ECA-82B9-91257E42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5CE62-6699-4CC9-867A-5859E948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C5D37-C2C4-4F66-BFED-6510DD6C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BB690-09B4-413B-9D5E-6DB3EB5B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081D-1927-490A-8056-8E0AAF73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92C10-2661-48BC-A72C-D8A5D6D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43D-0134-41C4-8C27-A8E9F27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A2CAF-F97E-4AA6-84F0-4CA863B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243CE-609D-42C1-8F96-4519B1F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AAC8-5704-4C07-B53D-2332C501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712B1-FFD9-4538-B7C0-35B47F5D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F4A6-35C1-4710-BA78-7BC79174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F9672-7FBD-41C5-B7A8-4DE77267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F6A93-5D5B-42D6-AC3A-D6E4D428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9A259-D1C3-40F5-9E71-BE0F6FED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07321-5A7D-49F6-A4ED-7032C1ED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DECEF-F0C6-4B4C-80BE-76A2319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6A7-6BDE-4B85-8ED4-FF98FDB2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7CA5A-A50B-4B2F-AD9B-35400382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586B1-2474-4E2E-84A3-130DB6FB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16A25-2871-4C61-A733-1359EADB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41B76-74D2-44EC-9F94-02AB3AD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CF7D9-B651-42C7-A40F-25B10625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5C5D3-5228-46D4-B9D0-3F779618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EDB07-DFD5-4C18-BB4F-A9880EB1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827360" y="-360"/>
            <a:ext cx="7316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1" marL="157680">
              <a:spcAft>
                <a:spcPts val="2500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2" marL="220680">
              <a:spcAft>
                <a:spcPts val="2500"/>
              </a:spcAft>
              <a:buClr>
                <a:srgbClr val="000000"/>
              </a:buClr>
              <a:buFont typeface="Arial"/>
              <a:buChar char="●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3" marL="283680" indent="283680">
              <a:spcAft>
                <a:spcPts val="25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4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5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6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B3FC-88A9-4B66-A921-A2BE82FEA7D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>
              <a:spcBef>
                <a:spcPts val="4000"/>
              </a:spcBef>
              <a:spcAft>
                <a:spcPts val="2999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116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title"/>
          </p:nvPr>
        </p:nvSpPr>
        <p:spPr>
          <a:xfrm>
            <a:off x="5181120" y="0"/>
            <a:ext cx="407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AF7-59E1-447E-BD12-C5852C46E04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8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9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116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22440" y="240048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5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F2D2-C533-4D7B-A01F-73F83F05675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75760" indent="4320">
              <a:spcAft>
                <a:spcPts val="2001"/>
              </a:spcAft>
              <a:buClr>
                <a:srgbClr val="000000"/>
              </a:buClr>
              <a:buFont typeface="Arial"/>
              <a:buChar char="●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116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BEC5-0F8B-4670-8CD4-89609B1C9CE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120"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1360" indent="-21744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49600" indent="-21276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01880" indent="28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01880" indent="28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01880" indent="28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116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B7B-C15F-43F1-9185-70B6BD5E19C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83760">
              <a:spcAft>
                <a:spcPts val="2001"/>
              </a:spcAft>
              <a:buClr>
                <a:srgbClr val="000000"/>
              </a:buClr>
              <a:buFont typeface="Arial"/>
              <a:buChar char="●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11FF-DF7C-4580-A1E4-86CD4053AF8F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4330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53136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165680" indent="-38844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20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21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1028880" y="2919240"/>
            <a:ext cx="2757240" cy="5972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5446800" y="2730600"/>
            <a:ext cx="2211480" cy="853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017960" y="2658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152360" y="2276640"/>
            <a:ext cx="23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86240" y="22734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Laun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D05-FF80-47A1-B86C-792BBA2F2B8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531360" indent="-648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015920" indent="-38160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2350440" indent="-123624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3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4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191B-1397-479C-B463-223548FEBC0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ser.com/watch_video.php?vid=240263" TargetMode="External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7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How Populations Grow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268280" y="790560"/>
            <a:ext cx="6434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haracteristics of Populat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262480" y="500040"/>
            <a:ext cx="3571920" cy="2428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57200" y="2155680"/>
            <a:ext cx="95724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514656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haracteristics of Populations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important characteristi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 population are i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spcAft>
                <a:spcPts val="75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spcAft>
                <a:spcPts val="75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spcAft>
                <a:spcPts val="75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0"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5927760" y="308124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213600" y="5423040"/>
            <a:ext cx="24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# / unit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182680" y="4557600"/>
            <a:ext cx="33451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opulation Growt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72880" y="514080"/>
            <a:ext cx="88711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99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opulation Growt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lnSpc>
                <a:spcPct val="80000"/>
              </a:lnSpc>
              <a:spcBef>
                <a:spcPts val="2500"/>
              </a:spcBef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factors can affect population size &amp; thus growth rates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lnSpc>
                <a:spcPct val="80000"/>
              </a:lnSpc>
              <a:spcAft>
                <a:spcPts val="62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ality (the number of birth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lnSpc>
                <a:spcPct val="80000"/>
              </a:lnSpc>
              <a:spcAft>
                <a:spcPts val="62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ality (the number of death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lnSpc>
                <a:spcPct val="80000"/>
              </a:lnSpc>
              <a:spcAft>
                <a:spcPts val="62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igration (the number of individuals that enter the populatio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lnSpc>
                <a:spcPct val="80000"/>
              </a:lnSpc>
              <a:spcAft>
                <a:spcPts val="62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gration (number of individuals that leave the pop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0">
              <a:lnSpc>
                <a:spcPct val="80000"/>
              </a:lnSpc>
              <a:spcBef>
                <a:spcPts val="2500"/>
              </a:spcBef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an a population grow then?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ill a population decrease in siz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148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2308320"/>
            <a:ext cx="784080" cy="5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22440" y="2200320"/>
            <a:ext cx="6728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xponential Growt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507" t="0" r="1897" b="5120"/>
          <a:stretch/>
        </p:blipFill>
        <p:spPr>
          <a:xfrm>
            <a:off x="128520" y="2367000"/>
            <a:ext cx="8242200" cy="37656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38240" y="2049480"/>
            <a:ext cx="8234280" cy="456480"/>
          </a:xfrm>
          <a:prstGeom prst="rect">
            <a:avLst/>
          </a:prstGeom>
          <a:solidFill>
            <a:srgbClr val="006d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onenti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0520" y="768240"/>
            <a:ext cx="8542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ideal conditions with unlimited resources, a population will grow exponentially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-Shape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Logistic Growt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4680" y="730080"/>
            <a:ext cx="8332920" cy="16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 growth is characterized by an S-shaped curve. What causes this type of grow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0" t="0" r="776" b="1638"/>
          <a:stretch/>
        </p:blipFill>
        <p:spPr>
          <a:xfrm>
            <a:off x="1434960" y="1523880"/>
            <a:ext cx="6355080" cy="5016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216400" y="2203560"/>
            <a:ext cx="2368800" cy="1100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252920" y="3179880"/>
            <a:ext cx="6858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813800" y="3740040"/>
            <a:ext cx="133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up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Limits to growt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54280" y="923760"/>
            <a:ext cx="55897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Dependent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 with the biome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un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sus Density-Independ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itat dis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9120" y="5589720"/>
            <a:ext cx="86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ch type of populations more prone to density-dependent factors? Density –indepen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53880" y="1095480"/>
            <a:ext cx="30258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datory Prey cycle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1074600"/>
            <a:ext cx="4694400" cy="48340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572000" y="1300320"/>
            <a:ext cx="457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039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our animal populations are in d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urrent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things we are trying to do to  ensure survival of many of our sp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DUHSD</cp:lastModifiedBy>
  <dcterms:modified xsi:type="dcterms:W3CDTF">2008-05-30T21:17:44Z</dcterms:modified>
  <cp:revision>15</cp:revision>
  <dc:subject/>
  <dc:title>Biology</dc:title>
</cp:coreProperties>
</file>